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BFBA-D052-455F-A0AB-AED810F1F09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6E1-F013-468E-8C2A-891A2FB8C9B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721F-D2C0-4A3C-AB05-A0D4C2FFB3F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44E2-DB6F-48F9-923F-D23862F698A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2A5-7184-4F24-9B47-BE425558AAF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323-764E-47A5-8A58-37CADE2EC39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9C13-EFF9-4466-BB4C-12F111965E7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234-72DC-49F8-85FD-FCD172D6CCA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0944-39D4-4595-AD57-1CAD3DEFAB0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5876-0628-47CE-9BE0-73309E4E17F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FC3-680B-49DC-A52C-AF2CBB6D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50B-9BE9-4852-A165-98B8C00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D82-F42D-429C-A9A1-BB485A8F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293-4BCA-4797-B48B-C19FD9CB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161D-2752-45D9-99D7-CDFC0EC5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3312-2CB3-4C0C-B129-E6D6080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D49-9BA7-4B91-8CDF-14DD05B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8D0E-324E-4CF5-8981-E63509B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FC5F-F2B8-48B6-AFA5-D2F4327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05F4-F657-4FFA-A4B6-247328D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BFF4-437E-49AC-BBB3-998CBDE7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2B2-334E-4FD0-8397-B84475C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2E67-7255-4282-B7E8-195B810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7B0-D1B1-4F95-A11C-E12D8088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64E6-DBAD-4842-9939-F5CA602B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7E82-3598-4C1F-BE78-E6F9D272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BF91-A763-4F3C-8DDD-0687D5F9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B54ED-22F3-43CB-8F5E-8D8F8F89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4723D-A5A1-4C07-824E-DCD3FB42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006C9-0FBB-4EF9-8C34-AEED1D1B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D8CC3-40BC-45D6-BF1B-BB7D528A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10277-CE8C-4493-B6B3-CBC6221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9B7-2DA8-4012-9DD1-41C5034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42129-3F76-4B86-986E-B05DC2C4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D4044-EB9A-4E2A-8517-FCF2E32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57338-A1AE-4CCF-9683-EC69CC7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A75A5-7BBD-48DB-A9F7-92341B8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00C87-8D08-466F-B41B-69E346C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C3146-F1DA-4D85-838B-95C16038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FBB77-9B8A-4589-92C1-B3275B69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B6B5D-3ED8-4722-B5DF-6DA5640F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270B9-1959-4895-9DE4-6602C9C7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1066A-A922-48C1-9564-A5C45C5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50C-40AE-49FE-9353-F0B6DB68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9180A-1771-4C46-B8BE-A7FA6C6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A7A89-F706-44CE-BCDB-FA1E94CF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6F627-AE4A-43CD-86C4-A3A7FF9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EE0FF-0E3A-45D6-8C65-2483BD7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93D92-8548-4BD2-B812-E37A8A9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9724D-10DF-4E57-BAE5-F8921B5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EB088-EFB1-413A-9C43-0F13EC0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78691-4BFA-42B5-9125-D9843E66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64AD3-E4A2-4B45-9A97-70BAD120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9D471-8680-4C5A-8B98-E1F44CC0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556-0473-46D4-9F84-EA55F6EB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1FEE8-8C00-4902-BAB0-1F4B98E7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785EC-8427-4475-BA74-F47C1BBE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A50AC-EAC7-4712-969F-291576B3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66CBD-72CB-4A26-B61C-182B383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1BC01-893E-489D-9726-2F4F38A3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BA6B5-C628-4902-AF98-E6B751F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9158D-9506-4E72-AC9F-1807E40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64606-5FE8-4BC4-87BF-FDB895B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1DFE0-7F55-4D2D-A9D0-D474BF32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F51D9-0212-41BF-AFC9-9B03CC07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5AB-AFB6-4A7D-AA14-39F2C5D4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91004-FC00-45D8-A1CE-39B4040F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E41A-A00A-4CF4-AFD1-CABAF902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C399-1671-449F-B55A-582238A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FD8C-0EA8-4E77-8E82-C5C3E25E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C964-6463-4B64-8D14-96D2C482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1E0B2-DBE8-4384-ADB1-D7AEBC3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F9F77-F3F0-4DCC-A32C-2E258EB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2936-4722-4833-975A-4B8C62B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D981C-1760-4780-8936-0D907AEE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9E632-AA72-4801-96C0-0281800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74C-96AD-4234-902F-1CCDBC2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5A4F-F5C8-4CBE-92C8-634A4FE6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66C7-1AD0-4B6D-9735-B6DA3910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404A-E9D7-41EE-9E39-9C0DFED3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D5340-EF75-4096-8596-9EABDA6C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75CB3-C0CD-4181-9D84-50F687D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06287-658F-49D7-9C5F-D7CFDDB4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76310-53FC-4582-BD6E-C0060539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BE743-E691-4AEC-8129-D06C1FE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448B5-0127-455E-BFAF-A7F08613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7E2BF-FC32-4C4A-B376-2AC36708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4DB-64DB-47E3-8F89-CF501E5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33730-2378-4D53-A82F-7A36748C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37FFF-453B-40C9-8678-465CE68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10834-9948-4739-AE1F-677E92F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B5ACC-47DA-428D-9991-11C0CF59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A2404-BD19-42CA-BB21-5613ABDA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7B4E8-8058-469E-B084-A10C90D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556C-A131-4658-A4A0-72E0762D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3925E-0B9B-4F2A-A425-F1F2CC1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7EB4-BE97-440E-B553-97A0272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1DDE-B488-43BD-A537-A76F66A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55E-22E1-43E8-ABE5-4EE6E77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C933-9D06-4FF8-ADD3-809E69F5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8FB5-6096-4222-8FAA-C58BFFA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3BDD-550F-4E85-80ED-71E5C55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E5F04-DF92-4B63-8F5B-BA774F4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12FB0-A3C7-4200-A162-8E37049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5C64-4F34-459B-B8D2-2CD62E4E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7C0A-DC10-4B6A-A440-B3FB64B3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A39-E8D0-4D1B-B710-6B3223D63879}" type="slidenum">
              <a: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4e7ed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E359-32CB-417D-93F8-6E9DC87633B9}" type="slidenum">
              <a:rPr b="1" lang="zh-TW" sz="1400" spc="-1" strike="noStrike">
                <a:solidFill>
                  <a:srgbClr val="f4e7ed"/>
                </a:solidFill>
                <a:latin typeface="Tw Cen MT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C185-2547-4FDA-979E-7FD1FC28841D}" type="slidenum">
              <a:rPr b="1" lang="zh-TW" sz="24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C929-A1A2-4E37-90B8-3B1AEBA4A693}" type="slidenum">
              <a: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B73-0B38-4E60-AF80-C0DDD398D161}" type="slidenum">
              <a: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A27D-FD06-49DC-B70C-84691E4D35A8}" type="slidenum">
              <a:rPr b="1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B744-E9D2-4EE8-AE2B-334A5BA1A8CE}" type="slidenum">
              <a:rPr b="1" lang="zh-TW" sz="28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13f9a"/>
                </a:solidFill>
                <a:latin typeface="Tw Cen MT"/>
                <a:ea typeface="微軟正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F0B-C4D9-4C7F-A112-9FA7D8D07474}" type="slidenum">
              <a:rPr b="1" lang="zh-TW" sz="1400" spc="-1" strike="noStrike">
                <a:solidFill>
                  <a:srgbClr val="ffffff"/>
                </a:solidFill>
                <a:latin typeface="Tw Cen MT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w Cen MT"/>
              </a:rPr>
              <a:t>NIKI </a:t>
            </a:r>
            <a:r>
              <a:rPr b="1" i="1" lang="zh-TW" sz="4800" spc="-1" strike="noStrike">
                <a:solidFill>
                  <a:srgbClr val="ffffff"/>
                </a:solidFill>
                <a:latin typeface="Tw Cen MT"/>
              </a:rPr>
              <a:t>妮基的異想世界</a:t>
            </a:r>
            <a:r>
              <a:rPr b="0" lang="en-US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71640" y="292428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w Cen MT"/>
              </a:rPr>
              <a:t>NIKI </a:t>
            </a:r>
            <a:r>
              <a:rPr b="1" i="1" lang="zh-TW" sz="2600" spc="-1" strike="noStrike">
                <a:solidFill>
                  <a:srgbClr val="ffffff"/>
                </a:solidFill>
                <a:latin typeface="Tw Cen MT"/>
              </a:rPr>
              <a:t>的生平簡介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b13f9a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360" name="內容版面配置區 3" descr="1185640636.jpg"/>
          <p:cNvPicPr/>
          <p:nvPr/>
        </p:nvPicPr>
        <p:blipFill>
          <a:blip r:embed="rId1"/>
          <a:stretch/>
        </p:blipFill>
        <p:spPr>
          <a:xfrm>
            <a:off x="2050920" y="1700280"/>
            <a:ext cx="4440240" cy="4495680"/>
          </a:xfrm>
          <a:prstGeom prst="rect">
            <a:avLst/>
          </a:prstGeom>
          <a:ln w="0">
            <a:noFill/>
          </a:ln>
        </p:spPr>
      </p:pic>
      <p:sp>
        <p:nvSpPr>
          <p:cNvPr id="361" name="標題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13f9a"/>
                </a:solidFill>
                <a:latin typeface="Tw Cen MT"/>
                <a:ea typeface="微軟正黑體"/>
              </a:rPr>
              <a:t>NIKI</a:t>
            </a:r>
            <a:r>
              <a:rPr b="1" i="1" lang="zh-TW" sz="4400" spc="-1" strike="noStrike">
                <a:solidFill>
                  <a:srgbClr val="b13f9a"/>
                </a:solidFill>
                <a:latin typeface="Tw Cen MT"/>
                <a:ea typeface="微軟正黑體"/>
              </a:rPr>
              <a:t>是誰 </a:t>
            </a:r>
            <a:r>
              <a:rPr b="1" i="1" lang="en-US" sz="4400" spc="-1" strike="noStrike">
                <a:solidFill>
                  <a:srgbClr val="b13f9a"/>
                </a:solidFill>
                <a:latin typeface="Tw Cen MT"/>
                <a:ea typeface="微軟正黑體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164880" y="6519960"/>
            <a:ext cx="46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http://wuyeni.pixnet.net/blog/post/67821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橢圓形圖說文字 6"/>
          <p:cNvSpPr/>
          <p:nvPr/>
        </p:nvSpPr>
        <p:spPr>
          <a:xfrm>
            <a:off x="468360" y="1844640"/>
            <a:ext cx="1727280" cy="647640"/>
          </a:xfrm>
          <a:prstGeom prst="wedgeEllipseCallout">
            <a:avLst>
              <a:gd name="adj1" fmla="val 69870"/>
              <a:gd name="adj2" fmla="val 84976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畫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橢圓形圖說文字 7"/>
          <p:cNvSpPr/>
          <p:nvPr/>
        </p:nvSpPr>
        <p:spPr>
          <a:xfrm>
            <a:off x="611280" y="2852640"/>
            <a:ext cx="1728720" cy="647640"/>
          </a:xfrm>
          <a:prstGeom prst="wedgeEllipseCallout">
            <a:avLst>
              <a:gd name="adj1" fmla="val 69870"/>
              <a:gd name="adj2" fmla="val 84976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版畫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橢圓形圖說文字 8"/>
          <p:cNvSpPr/>
          <p:nvPr/>
        </p:nvSpPr>
        <p:spPr>
          <a:xfrm>
            <a:off x="6696000" y="692280"/>
            <a:ext cx="2124000" cy="647640"/>
          </a:xfrm>
          <a:prstGeom prst="wedgeEllipseCallout">
            <a:avLst>
              <a:gd name="adj1" fmla="val -74166"/>
              <a:gd name="adj2" fmla="val 129796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雕塑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橢圓形圖說文字 9"/>
          <p:cNvSpPr/>
          <p:nvPr/>
        </p:nvSpPr>
        <p:spPr>
          <a:xfrm>
            <a:off x="6443640" y="3141720"/>
            <a:ext cx="1728720" cy="647640"/>
          </a:xfrm>
          <a:prstGeom prst="wedgeEllipseCallout">
            <a:avLst>
              <a:gd name="adj1" fmla="val -84606"/>
              <a:gd name="adj2" fmla="val 37916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算命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橢圓形圖說文字 10"/>
          <p:cNvSpPr/>
          <p:nvPr/>
        </p:nvSpPr>
        <p:spPr>
          <a:xfrm>
            <a:off x="6372360" y="4292640"/>
            <a:ext cx="2447640" cy="647640"/>
          </a:xfrm>
          <a:prstGeom prst="wedgeEllipseCallout">
            <a:avLst>
              <a:gd name="adj1" fmla="val -60532"/>
              <a:gd name="adj2" fmla="val 136518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和平推動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橢圓形圖說文字 11"/>
          <p:cNvSpPr/>
          <p:nvPr/>
        </p:nvSpPr>
        <p:spPr>
          <a:xfrm>
            <a:off x="468360" y="4437000"/>
            <a:ext cx="2448000" cy="647640"/>
          </a:xfrm>
          <a:prstGeom prst="wedgeEllipseCallout">
            <a:avLst>
              <a:gd name="adj1" fmla="val 66324"/>
              <a:gd name="adj2" fmla="val -9138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舞台設計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橢圓形圖說文字 13"/>
          <p:cNvSpPr/>
          <p:nvPr/>
        </p:nvSpPr>
        <p:spPr>
          <a:xfrm>
            <a:off x="6696000" y="5589720"/>
            <a:ext cx="1621080" cy="647640"/>
          </a:xfrm>
          <a:prstGeom prst="wedgeEllipseCallout">
            <a:avLst>
              <a:gd name="adj1" fmla="val -71203"/>
              <a:gd name="adj2" fmla="val -27064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演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橢圓形圖說文字 14"/>
          <p:cNvSpPr/>
          <p:nvPr/>
        </p:nvSpPr>
        <p:spPr>
          <a:xfrm>
            <a:off x="5803920" y="1996920"/>
            <a:ext cx="2449440" cy="648000"/>
          </a:xfrm>
          <a:prstGeom prst="wedgeEllipseCallout">
            <a:avLst>
              <a:gd name="adj1" fmla="val -60532"/>
              <a:gd name="adj2" fmla="val 136518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服裝設計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橢圓形圖說文字 15"/>
          <p:cNvSpPr/>
          <p:nvPr/>
        </p:nvSpPr>
        <p:spPr>
          <a:xfrm>
            <a:off x="179280" y="5373720"/>
            <a:ext cx="2773440" cy="647640"/>
          </a:xfrm>
          <a:prstGeom prst="wedgeEllipseCallout">
            <a:avLst>
              <a:gd name="adj1" fmla="val 55550"/>
              <a:gd name="adj2" fmla="val -69643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環境設計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橢圓形圖說文字 16"/>
          <p:cNvSpPr/>
          <p:nvPr/>
        </p:nvSpPr>
        <p:spPr>
          <a:xfrm>
            <a:off x="4932360" y="907920"/>
            <a:ext cx="1584360" cy="648000"/>
          </a:xfrm>
          <a:prstGeom prst="wedgeEllipseCallout">
            <a:avLst>
              <a:gd name="adj1" fmla="val -46587"/>
              <a:gd name="adj2" fmla="val 132037"/>
            </a:avLst>
          </a:prstGeom>
          <a:solidFill>
            <a:srgbClr val="eba786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華康少女文字W5(P)"/>
                <a:ea typeface="華康少女文字W5(P)"/>
              </a:rPr>
              <a:t>模特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b13f9a"/>
                </a:solidFill>
                <a:latin typeface="Tw Cen MT"/>
              </a:rPr>
              <a:t>藝術創作前的 </a:t>
            </a:r>
            <a:r>
              <a:rPr b="1" i="1" lang="en-US" sz="4400" spc="-1" strike="noStrike">
                <a:solidFill>
                  <a:srgbClr val="b13f9a"/>
                </a:solidFill>
                <a:latin typeface="Tw Cen MT"/>
              </a:rPr>
              <a:t>NIKI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374" name="01 藝術創作前的NIKI.mp3" descr=""/>
          <p:cNvPicPr/>
          <p:nvPr/>
        </p:nvPicPr>
        <p:blipFill>
          <a:blip r:embed="rId1"/>
          <a:stretch/>
        </p:blipFill>
        <p:spPr>
          <a:xfrm>
            <a:off x="8101080" y="54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75" name="文字方塊 4"/>
          <p:cNvSpPr/>
          <p:nvPr/>
        </p:nvSpPr>
        <p:spPr>
          <a:xfrm>
            <a:off x="250920" y="170028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童年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父母經商失敗，被送去與祖父母同住，直到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才與父母聚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，唸過很多學校，適應不良，甚至被退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16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成為時裝模特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18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與大她一歲的哈利結婚，並且生了兩個小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23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-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產生嚴重的情緒問題，而被送到法國南部的尼斯治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圖片 6" descr="20051220_18.jpg"/>
          <p:cNvPicPr/>
          <p:nvPr/>
        </p:nvPicPr>
        <p:blipFill>
          <a:blip r:embed="rId2"/>
          <a:stretch/>
        </p:blipFill>
        <p:spPr>
          <a:xfrm rot="196200">
            <a:off x="5901840" y="1806480"/>
            <a:ext cx="2984760" cy="4005360"/>
          </a:xfrm>
          <a:prstGeom prst="rect">
            <a:avLst/>
          </a:prstGeom>
          <a:ln w="0">
            <a:noFill/>
          </a:ln>
        </p:spPr>
      </p:pic>
      <p:pic>
        <p:nvPicPr>
          <p:cNvPr id="377" name="圖片 5" descr="01.bmp"/>
          <p:cNvPicPr/>
          <p:nvPr/>
        </p:nvPicPr>
        <p:blipFill>
          <a:blip r:embed="rId3"/>
          <a:stretch/>
        </p:blipFill>
        <p:spPr>
          <a:xfrm rot="21339600">
            <a:off x="4276800" y="2454120"/>
            <a:ext cx="2930400" cy="3710160"/>
          </a:xfrm>
          <a:prstGeom prst="rect">
            <a:avLst/>
          </a:prstGeom>
          <a:ln w="0">
            <a:noFill/>
          </a:ln>
        </p:spPr>
      </p:pic>
      <p:sp>
        <p:nvSpPr>
          <p:cNvPr id="378" name="矩形 7"/>
          <p:cNvSpPr/>
          <p:nvPr/>
        </p:nvSpPr>
        <p:spPr>
          <a:xfrm>
            <a:off x="250920" y="609300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聲音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廣達基金會網站</a:t>
            </a:r>
            <a:br>
              <a:rPr sz="1600"/>
            </a:b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http://rdujour.com/tag/niki-de-saint-phalle/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，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內容版面配置區 3" descr="deSaintPhalle-jean.jpg"/>
          <p:cNvPicPr/>
          <p:nvPr/>
        </p:nvPicPr>
        <p:blipFill>
          <a:blip r:embed="rId1"/>
          <a:stretch/>
        </p:blipFill>
        <p:spPr>
          <a:xfrm rot="20740200">
            <a:off x="4825800" y="2614320"/>
            <a:ext cx="2592360" cy="3543120"/>
          </a:xfrm>
          <a:prstGeom prst="rect">
            <a:avLst/>
          </a:prstGeom>
          <a:ln w="0">
            <a:noFill/>
          </a:ln>
        </p:spPr>
      </p:pic>
      <p:pic>
        <p:nvPicPr>
          <p:cNvPr id="380" name="圖片 4" descr="nikiphalle1.jpg"/>
          <p:cNvPicPr/>
          <p:nvPr/>
        </p:nvPicPr>
        <p:blipFill>
          <a:blip r:embed="rId2"/>
          <a:stretch/>
        </p:blipFill>
        <p:spPr>
          <a:xfrm rot="570600">
            <a:off x="4444920" y="550800"/>
            <a:ext cx="3726000" cy="2608200"/>
          </a:xfrm>
          <a:prstGeom prst="rect">
            <a:avLst/>
          </a:prstGeom>
          <a:ln w="0">
            <a:noFill/>
          </a:ln>
        </p:spPr>
      </p:pic>
      <p:pic>
        <p:nvPicPr>
          <p:cNvPr id="381" name="圖片 5" descr="untitled2.bmp"/>
          <p:cNvPicPr/>
          <p:nvPr/>
        </p:nvPicPr>
        <p:blipFill>
          <a:blip r:embed="rId3"/>
          <a:stretch/>
        </p:blipFill>
        <p:spPr>
          <a:xfrm>
            <a:off x="539640" y="1700280"/>
            <a:ext cx="3375000" cy="47689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3f9a"/>
                </a:solidFill>
                <a:latin typeface="Tw Cen MT"/>
              </a:rPr>
              <a:t>NIKI and </a:t>
            </a:r>
            <a:r>
              <a:rPr b="1" i="1" lang="zh-TW" sz="3200" spc="-1" strike="noStrike">
                <a:solidFill>
                  <a:srgbClr val="b13f9a"/>
                </a:solidFill>
                <a:latin typeface="Tw Cen MT"/>
              </a:rPr>
              <a:t>丁格立</a:t>
            </a:r>
            <a:endParaRPr b="0" lang="en-US" sz="3200" spc="-1" strike="noStrike">
              <a:solidFill>
                <a:srgbClr val="b13f9a"/>
              </a:solidFill>
              <a:latin typeface="Tw Cen MT"/>
            </a:endParaRPr>
          </a:p>
        </p:txBody>
      </p:sp>
      <p:sp>
        <p:nvSpPr>
          <p:cNvPr id="383" name="矩形 6"/>
          <p:cNvSpPr/>
          <p:nvPr/>
        </p:nvSpPr>
        <p:spPr>
          <a:xfrm>
            <a:off x="324000" y="651996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http://blog.udn.com/bruhlmeier/502671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b13f9a"/>
                </a:solidFill>
                <a:latin typeface="Tw Cen MT"/>
              </a:rPr>
              <a:t>集合藝術與射擊藝術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385" name="02 集合與射擊藝術.mp3" descr=""/>
          <p:cNvPicPr/>
          <p:nvPr/>
        </p:nvPicPr>
        <p:blipFill>
          <a:blip r:embed="rId1"/>
          <a:stretch/>
        </p:blipFill>
        <p:spPr>
          <a:xfrm>
            <a:off x="802800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6" name="圖片 4" descr="1185640632.jpg"/>
          <p:cNvPicPr/>
          <p:nvPr/>
        </p:nvPicPr>
        <p:blipFill>
          <a:blip r:embed="rId2"/>
          <a:stretch/>
        </p:blipFill>
        <p:spPr>
          <a:xfrm>
            <a:off x="2919240" y="1251000"/>
            <a:ext cx="2876760" cy="3762360"/>
          </a:xfrm>
          <a:prstGeom prst="rect">
            <a:avLst/>
          </a:prstGeom>
          <a:ln w="0">
            <a:noFill/>
          </a:ln>
        </p:spPr>
      </p:pic>
      <p:pic>
        <p:nvPicPr>
          <p:cNvPr id="387" name="圖片 7" descr="niki-de-saint-phalle1.jpg"/>
          <p:cNvPicPr/>
          <p:nvPr/>
        </p:nvPicPr>
        <p:blipFill>
          <a:blip r:embed="rId3"/>
          <a:stretch/>
        </p:blipFill>
        <p:spPr>
          <a:xfrm rot="660000">
            <a:off x="5417640" y="1031760"/>
            <a:ext cx="3251160" cy="3311640"/>
          </a:xfrm>
          <a:prstGeom prst="rect">
            <a:avLst/>
          </a:prstGeom>
          <a:ln w="0">
            <a:noFill/>
          </a:ln>
        </p:spPr>
      </p:pic>
      <p:sp>
        <p:nvSpPr>
          <p:cNvPr id="388" name="文字方塊 9"/>
          <p:cNvSpPr/>
          <p:nvPr/>
        </p:nvSpPr>
        <p:spPr>
          <a:xfrm>
            <a:off x="324000" y="1628640"/>
            <a:ext cx="25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30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把生活裡面的「現成物」組合起來，貼在板子上，做成許多的拼貼作品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她發現「射擊」似乎有助於釋放壓抑的情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圖片 5" descr="niki-de-saint-phalle.jpg"/>
          <p:cNvPicPr/>
          <p:nvPr/>
        </p:nvPicPr>
        <p:blipFill>
          <a:blip r:embed="rId4"/>
          <a:stretch/>
        </p:blipFill>
        <p:spPr>
          <a:xfrm>
            <a:off x="3276720" y="2852640"/>
            <a:ext cx="5182920" cy="3514680"/>
          </a:xfrm>
          <a:prstGeom prst="rect">
            <a:avLst/>
          </a:prstGeom>
          <a:ln w="0">
            <a:noFill/>
          </a:ln>
        </p:spPr>
      </p:pic>
      <p:sp>
        <p:nvSpPr>
          <p:cNvPr id="390" name="矩形 8"/>
          <p:cNvSpPr/>
          <p:nvPr/>
        </p:nvSpPr>
        <p:spPr>
          <a:xfrm>
            <a:off x="250920" y="6273720"/>
            <a:ext cx="66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http://aimeered.pixnet.net/blog/post/22737680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，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http://wuyeni.pixnet.net/blog/post/67821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b13f9a"/>
                </a:solidFill>
                <a:latin typeface="Tw Cen MT"/>
              </a:rPr>
              <a:t>擁抱娜娜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392" name="03 娜娜.mp3" descr=""/>
          <p:cNvPicPr/>
          <p:nvPr/>
        </p:nvPicPr>
        <p:blipFill>
          <a:blip r:embed="rId1"/>
          <a:stretch/>
        </p:blipFill>
        <p:spPr>
          <a:xfrm>
            <a:off x="810108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93" name="圖片 4" descr="ap_20070425014122975.jpg"/>
          <p:cNvPicPr/>
          <p:nvPr/>
        </p:nvPicPr>
        <p:blipFill>
          <a:blip r:embed="rId2"/>
          <a:stretch/>
        </p:blipFill>
        <p:spPr>
          <a:xfrm>
            <a:off x="4932360" y="155736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394" name="矩形 7"/>
          <p:cNvSpPr/>
          <p:nvPr/>
        </p:nvSpPr>
        <p:spPr>
          <a:xfrm>
            <a:off x="324000" y="1844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35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妮基的憤怒逐漸平息，開始思考女人在社會中所扮演的各種角色，並製作了許多「娜娜」（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Nana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）（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Nana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是法文中俗語的女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圖片 8" descr="未命名06.JPG"/>
          <p:cNvPicPr/>
          <p:nvPr/>
        </p:nvPicPr>
        <p:blipFill>
          <a:blip r:embed="rId3"/>
          <a:stretch/>
        </p:blipFill>
        <p:spPr>
          <a:xfrm rot="652800">
            <a:off x="3552480" y="2617920"/>
            <a:ext cx="3924360" cy="3305160"/>
          </a:xfrm>
          <a:prstGeom prst="rect">
            <a:avLst/>
          </a:prstGeom>
          <a:ln w="0">
            <a:noFill/>
          </a:ln>
        </p:spPr>
      </p:pic>
      <p:sp>
        <p:nvSpPr>
          <p:cNvPr id="396" name="矩形 6"/>
          <p:cNvSpPr/>
          <p:nvPr/>
        </p:nvSpPr>
        <p:spPr>
          <a:xfrm>
            <a:off x="819000" y="623736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聲音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廣達基金會網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13f9a"/>
                </a:solidFill>
                <a:latin typeface="Tw Cen MT"/>
              </a:rPr>
              <a:t>NIKI</a:t>
            </a:r>
            <a:r>
              <a:rPr b="1" i="1" lang="zh-TW" sz="4400" spc="-1" strike="noStrike">
                <a:solidFill>
                  <a:srgbClr val="b13f9a"/>
                </a:solidFill>
                <a:latin typeface="Tw Cen MT"/>
              </a:rPr>
              <a:t>中年的廣泛創作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398" name="04 中年廣泛創作的NIKI.mp3" descr=""/>
          <p:cNvPicPr/>
          <p:nvPr/>
        </p:nvPicPr>
        <p:blipFill>
          <a:blip r:embed="rId1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9" name="文字方塊 4"/>
          <p:cNvSpPr/>
          <p:nvPr/>
        </p:nvSpPr>
        <p:spPr>
          <a:xfrm>
            <a:off x="324000" y="1657440"/>
            <a:ext cx="3024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40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在世界各地建造了許多公共建築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《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史特拉汶斯基噴泉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她也拍過電影、設計海報、印製版畫、製作椅子、花瓶等實用的東西，希望能把藝術和生活結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圖片 5" descr="未命名01.JPG"/>
          <p:cNvPicPr/>
          <p:nvPr/>
        </p:nvPicPr>
        <p:blipFill>
          <a:blip r:embed="rId2"/>
          <a:stretch/>
        </p:blipFill>
        <p:spPr>
          <a:xfrm>
            <a:off x="3390840" y="1700280"/>
            <a:ext cx="5342040" cy="3673440"/>
          </a:xfrm>
          <a:prstGeom prst="rect">
            <a:avLst/>
          </a:prstGeom>
          <a:ln w="0">
            <a:noFill/>
          </a:ln>
        </p:spPr>
      </p:pic>
      <p:pic>
        <p:nvPicPr>
          <p:cNvPr id="401" name="圖片 6" descr="未命名07.JPG"/>
          <p:cNvPicPr/>
          <p:nvPr/>
        </p:nvPicPr>
        <p:blipFill>
          <a:blip r:embed="rId3"/>
          <a:stretch/>
        </p:blipFill>
        <p:spPr>
          <a:xfrm rot="618600">
            <a:off x="4005360" y="2292120"/>
            <a:ext cx="4540320" cy="3817800"/>
          </a:xfrm>
          <a:prstGeom prst="rect">
            <a:avLst/>
          </a:prstGeom>
          <a:ln w="0">
            <a:noFill/>
          </a:ln>
        </p:spPr>
      </p:pic>
      <p:sp>
        <p:nvSpPr>
          <p:cNvPr id="402" name="矩形 7"/>
          <p:cNvSpPr/>
          <p:nvPr/>
        </p:nvSpPr>
        <p:spPr>
          <a:xfrm>
            <a:off x="819000" y="623736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聲音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廣達基金會網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b13f9a"/>
                </a:solidFill>
                <a:latin typeface="Tw Cen MT"/>
              </a:rPr>
              <a:t>塔羅牌公園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404" name="05 塔羅牌公園.mp3" descr=""/>
          <p:cNvPicPr/>
          <p:nvPr/>
        </p:nvPicPr>
        <p:blipFill>
          <a:blip r:embed="rId1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5" name="圖片 4" descr="未命名01.JPG"/>
          <p:cNvPicPr/>
          <p:nvPr/>
        </p:nvPicPr>
        <p:blipFill>
          <a:blip r:embed="rId2"/>
          <a:stretch/>
        </p:blipFill>
        <p:spPr>
          <a:xfrm>
            <a:off x="3332160" y="1628640"/>
            <a:ext cx="5240520" cy="4392720"/>
          </a:xfrm>
          <a:prstGeom prst="rect">
            <a:avLst/>
          </a:prstGeom>
          <a:ln w="0">
            <a:noFill/>
          </a:ln>
        </p:spPr>
      </p:pic>
      <p:sp>
        <p:nvSpPr>
          <p:cNvPr id="406" name="文字方塊 5"/>
          <p:cNvSpPr/>
          <p:nvPr/>
        </p:nvSpPr>
        <p:spPr>
          <a:xfrm>
            <a:off x="324000" y="1657440"/>
            <a:ext cx="302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46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歲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她實現了自己的夢想，建造了一座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《</a:t>
            </a:r>
            <a:r>
              <a:rPr b="0" lang="zh-TW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塔羅公園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微軟正黑體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"/>
          <p:cNvSpPr/>
          <p:nvPr/>
        </p:nvSpPr>
        <p:spPr>
          <a:xfrm>
            <a:off x="745920" y="630864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聲音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廣達基金會網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b13f9a"/>
                </a:solidFill>
                <a:latin typeface="Tw Cen MT"/>
              </a:rPr>
              <a:t>晚年的 </a:t>
            </a:r>
            <a:r>
              <a:rPr b="1" i="1" lang="en-US" sz="4400" spc="-1" strike="noStrike">
                <a:solidFill>
                  <a:srgbClr val="b13f9a"/>
                </a:solidFill>
                <a:latin typeface="Tw Cen MT"/>
              </a:rPr>
              <a:t>NIKI</a:t>
            </a:r>
            <a:endParaRPr b="0" lang="en-US" sz="4400" spc="-1" strike="noStrike">
              <a:solidFill>
                <a:srgbClr val="b13f9a"/>
              </a:solidFill>
              <a:latin typeface="Tw Cen MT"/>
            </a:endParaRPr>
          </a:p>
        </p:txBody>
      </p:sp>
      <p:pic>
        <p:nvPicPr>
          <p:cNvPr id="409" name="06 NIKI晚年.mp3" descr=""/>
          <p:cNvPicPr/>
          <p:nvPr/>
        </p:nvPicPr>
        <p:blipFill>
          <a:blip r:embed="rId1"/>
          <a:stretch/>
        </p:blipFill>
        <p:spPr>
          <a:xfrm>
            <a:off x="810108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0" name="圖片 4" descr="NikideSaintPhalle.jpg"/>
          <p:cNvPicPr/>
          <p:nvPr/>
        </p:nvPicPr>
        <p:blipFill>
          <a:blip r:embed="rId2"/>
          <a:stretch/>
        </p:blipFill>
        <p:spPr>
          <a:xfrm>
            <a:off x="971640" y="1844640"/>
            <a:ext cx="3014640" cy="3888000"/>
          </a:xfrm>
          <a:prstGeom prst="rect">
            <a:avLst/>
          </a:prstGeom>
          <a:ln w="0">
            <a:noFill/>
          </a:ln>
        </p:spPr>
      </p:pic>
      <p:pic>
        <p:nvPicPr>
          <p:cNvPr id="411" name="圖片 5" descr="reigen_blog_niki_de_saint_phalle.jpg"/>
          <p:cNvPicPr/>
          <p:nvPr/>
        </p:nvPicPr>
        <p:blipFill>
          <a:blip r:embed="rId3"/>
          <a:stretch/>
        </p:blipFill>
        <p:spPr>
          <a:xfrm>
            <a:off x="3995640" y="1844640"/>
            <a:ext cx="3757680" cy="3888000"/>
          </a:xfrm>
          <a:prstGeom prst="rect">
            <a:avLst/>
          </a:prstGeom>
          <a:ln w="0">
            <a:noFill/>
          </a:ln>
        </p:spPr>
      </p:pic>
      <p:sp>
        <p:nvSpPr>
          <p:cNvPr id="412" name="矩形 5"/>
          <p:cNvSpPr/>
          <p:nvPr/>
        </p:nvSpPr>
        <p:spPr>
          <a:xfrm>
            <a:off x="0" y="6519960"/>
            <a:ext cx="84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圖片來源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:</a:t>
            </a:r>
            <a:r>
              <a:rPr b="0" lang="zh-TW" sz="1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http://www.reigen-blog.com/post/332106150/niki-de-saint-ph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6"/>
          <p:cNvSpPr/>
          <p:nvPr/>
        </p:nvSpPr>
        <p:spPr>
          <a:xfrm>
            <a:off x="3705120" y="580536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華康少女文字W5(P)"/>
                <a:ea typeface="華康少女文字W5(P)"/>
              </a:rPr>
              <a:t>NIKI</a:t>
            </a:r>
            <a:r>
              <a:rPr b="0" lang="zh-TW" sz="2400" spc="-1" strike="noStrike">
                <a:solidFill>
                  <a:srgbClr val="000000"/>
                </a:solidFill>
                <a:latin typeface="華康少女文字W5(P)"/>
                <a:ea typeface="華康少女文字W5(P)"/>
              </a:rPr>
              <a:t>的人生因認識了藝術而發光發熱，直到最後一刻依然璀璨</a:t>
            </a:r>
            <a:r>
              <a:rPr b="0" lang="en-US" sz="2400" spc="-1" strike="noStrike">
                <a:solidFill>
                  <a:srgbClr val="000000"/>
                </a:solidFill>
                <a:latin typeface="華康少女文字W5(P)"/>
                <a:ea typeface="華康少女文字W5(P)"/>
              </a:rPr>
              <a:t>!!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0:17Z</dcterms:created>
  <dc:creator>Mary</dc:creator>
  <dc:description/>
  <dc:language>en-US</dc:language>
  <cp:lastModifiedBy>Mary Lin</cp:lastModifiedBy>
  <dcterms:modified xsi:type="dcterms:W3CDTF">2010-12-30T14:26:16Z</dcterms:modified>
  <cp:revision>16</cp:revision>
  <dc:subject/>
  <dc:title>NIKI 妮基的異想世界 </dc:title>
</cp:coreProperties>
</file>